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6D6-BC7A-477B-86E8-1E95EB51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E7F-DE65-418E-9597-2E81A459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C80-23D4-4D6B-90B2-DC73F746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694-66DE-402E-8622-F18E8C4A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480-65FD-48BC-9A37-2256F912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92E-499D-4DE2-8C09-0B1F1B5B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E6A-6C92-4E96-8AC2-85B88332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E01-39E9-40FF-BE3C-D3CC9CED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EAA-F2E0-4B12-B79E-B7A23BE7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21EE-7966-4781-BF6B-2599A6FF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67E-41FF-4A68-BC1F-B6F9B43F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7DAB-EDC1-4F51-832A-9AA8547E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C99B-5598-4859-AB62-36F509D55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iz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Offical member of a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old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young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s:Cit.iz.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90468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077320" y="3733920"/>
            <a:ext cx="72540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19920" y="4267080"/>
            <a:ext cx="1827000" cy="1778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638680" y="1905120"/>
            <a:ext cx="20988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olog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ask for give 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nyms: s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onyms: 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Word: g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lable: A pol a g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sevelt3</cp:lastModifiedBy>
  <dcterms:modified xsi:type="dcterms:W3CDTF">2008-12-17T16:50:06Z</dcterms:modified>
  <cp:revision>2</cp:revision>
  <dc:subject/>
  <dc:title>PowerPoint Presentation</dc:title>
</cp:coreProperties>
</file>